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2.png" ContentType="image/png"/>
  <Override PartName="/ppt/media/image1.jpeg" ContentType="image/jpeg"/>
  <Override PartName="/ppt/media/image5.png" ContentType="image/png"/>
  <Override PartName="/ppt/media/image16.pct" ContentType="image/x-pict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6.png" ContentType="image/png"/>
  <Override PartName="/ppt/media/image7.pct" ContentType="image/x-pict"/>
  <Override PartName="/ppt/media/image8.png" ContentType="image/png"/>
  <Override PartName="/ppt/media/image10.pct" ContentType="image/x-pict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B9C-8879-4017-8C96-697903D7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C6C-7E58-4C20-BE95-21793CD5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B9E-2CDA-42DB-BF9F-DC42ED55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9FE-D43B-48D7-8261-A318D2E4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B0BB-AE59-43F7-823C-D4DB557D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0052-0407-42F0-AEBE-A872A00B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7916-7A0C-4812-84EF-0849133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65BD-13FC-492B-A336-FBFC5654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7A26-7F04-4B3F-90A4-EEBD8EE4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B693-F9DC-43F7-BEC0-AC82D7A3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8D13-63C3-4596-A317-502DF35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B29-53EB-45A5-8C2D-19A58304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2762-6BCE-4E1D-8146-76C0BA8D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D6F1-6E42-4FD5-9076-B0BAB03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FBE4-C833-4E09-9A74-BE880D9A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BC09-1234-4641-9EEB-162747F9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CE14-75C7-4680-B267-4CFEE1E3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FA9-C1D1-4830-B365-D1EAFB0F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B30-99EB-4EBC-9219-F088318B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CB0-8AC3-4122-831E-06881820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689-304B-4B41-B739-3F0F1B02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69C-FEE8-4E5A-822D-CF4993D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106-6DEB-4258-9AB0-8B04272D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BA1-9E54-4039-BD2E-2D128EB8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7FA2-D2F9-4B81-9E48-7396DAD0614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766F-4B61-4534-A27C-034851E23F0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1.pct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82400"/>
                </a:solidFill>
                <a:uFillTx/>
                <a:latin typeface="Times New Roman"/>
              </a:rPr>
              <a:t>Idylls of the King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Tennyson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43200" y="3505320"/>
            <a:ext cx="42670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deling “metacognition”</a:t>
            </a:r>
            <a:r>
              <a:rPr b="0" lang="en-US" sz="66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82400"/>
                </a:solidFill>
                <a:latin typeface="Times New Roman"/>
              </a:rPr>
              <a:t>(p. 15)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 awareness of one’s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ing the voice wi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ware of your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bout th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out loud in your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6-17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, passing thence to battle, f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ail, and throes and agonies of the lif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will not be happy ruling without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will not be a whole person without the one he loves by his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her, his happiness will spread to all they r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has resolved an inner conflict and set a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5791320" y="1905120"/>
            <a:ext cx="232236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to make the most of your life, you need a loved one by your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takes two for one to feel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life goes better when one’s private life is happy and sec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909800" y="1766880"/>
            <a:ext cx="2112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 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7 (cont.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after--as he speaks who tells the tale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rthur reach’d a field of battle 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itch’d pavilions of his foe,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all so clear about him that he. . 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is inspired by his love for Guinev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 approaches the battle with perfect clarity and sharp foc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hur’s focus drives him to success on the battle f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ods seem to be with Arthur on this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022720" y="2575080"/>
            <a:ext cx="3808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ho find inspiration and set clear objectives for their lives are likely to achieve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062000" y="1919160"/>
            <a:ext cx="38084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9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r, there be many rumors on his head; For there be those who hate him in their hear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him baseborn, and since his ways are sweet, and theirs are bestial, hold him less than man; And there be those who deem him more than man, And dream he dropt from heave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jealousy and envy, some have devised malicious rumors to make Arthur seem evil (like the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have put him on a pedestal, made him God-like (also inaccurat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24600" y="1766880"/>
            <a:ext cx="36036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human nature that jealousy breeds contempt and prompts people to put others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lso human nature to make our heroes out to be more than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062000" y="1962000"/>
            <a:ext cx="38084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eading Academic Standar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11.A.1  Demonstrate the ability to understand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ctional text, novel excerpt, and poetry, appropriate to grade le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43440" y="1766880"/>
            <a:ext cx="23655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25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Arthur said, ‘Behold, thy doom is mine. Let chance what will, I love thee to the death!’  To whom the Queen replied with drooping eyes, ‘King and my lord, I love thee to the death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Inferences and/or applied thoughts?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91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When you love you should not say, ‘God is in my heart,’ but rather, ‘I am in the heart of God.’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And think not you can direct the course of love, for love, if it finds you worthy, directs your course.”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-Kahlil Gibran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rpose of this is for you to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aware of how you think and lea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every bit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ow the heck to I do all that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38560" y="1766880"/>
            <a:ext cx="3416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ough “Reading on Level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:   Reading between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:   Reading beyond the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Levels of Reading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l:  What did the author s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nyson’s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erential:  What do the author’s words mean to me?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interpre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d:  Can I apply this to my world today, to human nature, to my own experiences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ader’s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ennyson’s words:   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p. 13  (dedication)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to his memory--since he held them dear, Perchance as finding there unconsciously . 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ferences: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82400"/>
                </a:solidFill>
                <a:latin typeface="Times New Roman"/>
              </a:rPr>
              <a:t>dedication  p. 13,14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followed his conscience to do what he thought right and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is life, he had one true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 not give in to the temptations that come with power and 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under the spotlight that comes with fame, his life and record are without 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 passing was a huge loss for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pplied thoughts </a:t>
            </a: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(beyond the book)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who are able to remain true to themselves and resist the temptation to abuse their power are admired, yet r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se who have one true love in their life are to be adm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heroes are rare, that is why we miss them when they are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37:28Z</dcterms:created>
  <dc:creator>FCHS</dc:creator>
  <dc:description/>
  <dc:language>en-US</dc:language>
  <cp:lastModifiedBy>PA Department of Education</cp:lastModifiedBy>
  <dcterms:modified xsi:type="dcterms:W3CDTF">2009-04-13T12:26:58Z</dcterms:modified>
  <cp:revision>27</cp:revision>
  <dc:subject/>
  <dc:title>Idylls of the King - Tennyson</dc:title>
</cp:coreProperties>
</file>